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E561-F2BB-4DB0-9049-8F13CD2BB5F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7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case study, and describe the characteristics of case study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involved in designing and conducting a cas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eening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documents about the proposed case study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 informal interviews with key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participants have the experience and knowledge to contribute to the case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ers use the same data collection techniques as do other  qualitativ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collection techniques are selected to answer ‘how’ and ‘why’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ften common to find case study research that studies the same phenomenon at multiple sites (i.e., multicase, multisite, comparative case studi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s improve ex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s allow for greater understanding of context consid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 studies require cross-site analys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site analysis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ordered meta-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charts with descriptive data from each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do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rdered descriptive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meta-matrix based upon critical variable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-ordered predictor-outcome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more explanation and interpre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ordered meta-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chronology as an organizing variable for a meta-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tterp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displays of data from all the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upon dimensions or t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-ordered effects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potential cause-effect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manifest functions, latent functions, unintended con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case stud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possible cause-effect relations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n all-encompassing method that includes specific design, data collection, and data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also refers to the product of th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yields concrete knowledge that readers personally relate to their own experienc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 qualitative appro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focuses on a bounded system or unit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not a methodological choice.  It is a choice of what to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n all-encompassing research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ppropriate when the researcher wants to answer a descriptive or an explanatory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at challenges does a department face as they integrate instructional technology for blended learning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02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focus on a particular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include thick description of the case and include many variables and analyses of their inter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provide new insights to the researcher and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approaches can vary by specific discip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questions is a critical step in case study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 research questions address who, what, how, and w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case unde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step the researcher defines th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ts of analyses for the case are also determ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role of theory development in case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includes making a decision about whether or not to use theory development in selecting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theoretical and conceptual framework of the cas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theories from literature and researchers’ personal theories influence cas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single case study; a multiple case study; or a collective case study is appropri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study research, the number of cases is not determ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rio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the number of cases does not correspond to increased rig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y research generally employs purposive sampl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s are selected because they can provide information regarding the research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eening is used to determine if a potential participant has the necessary experience and knowledge of the phenomenon under investigation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3:48:11Z</dcterms:modified>
  <cp:revision>93</cp:revision>
  <dc:subject/>
  <dc:title>AutoCAD Architecture 2008: Part I: Getting Started</dc:title>
</cp:coreProperties>
</file>